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9752013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752400" cy="67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2604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5527800" y="-360"/>
            <a:ext cx="42256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3177720" y="523800"/>
            <a:ext cx="3397320" cy="25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300320" y="3222360"/>
            <a:ext cx="715320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6368760"/>
            <a:ext cx="422604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5527800" y="6368760"/>
            <a:ext cx="42256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B037-F7E6-4E82-A41B-8144C402E53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3178080" y="52380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300320" y="3222360"/>
            <a:ext cx="715320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3A67D-958F-4919-9FE0-241130DAA4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16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710160"/>
            <a:ext cx="7772400" cy="216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CC95C-19CE-4498-A0B4-EC12DA4E6E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16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16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0160"/>
            <a:ext cx="3792600" cy="216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710160"/>
            <a:ext cx="3792600" cy="216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986F8-A60E-4646-B627-B891BA03CA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16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16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16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710160"/>
            <a:ext cx="2502360" cy="216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710160"/>
            <a:ext cx="2502360" cy="216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710160"/>
            <a:ext cx="2502360" cy="216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3B442-B019-4B7A-8D22-E3851A8E3F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9FEDF-2F32-45A7-80D6-E0D6EF7BC2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5D1C4-343A-4D9B-9B01-051D7B67B4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EB719-0FA3-4AF8-AF07-3DAD88A874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91AEE-0509-4D9A-B816-932932CD10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259920"/>
            <a:ext cx="727092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FF24D-FCC8-4CF7-8893-4681B46BF0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16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710160"/>
            <a:ext cx="3792600" cy="216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F17D5-FAB6-40B7-BE26-4BEA66CBB0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16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710160"/>
            <a:ext cx="3792600" cy="216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FA853-D420-419F-8487-310A036D50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16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16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710160"/>
            <a:ext cx="7772400" cy="216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D5DE9-EB1D-40B1-8E41-5FAE29D823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2001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2001"/>
              </a:spcBef>
              <a:buClr>
                <a:srgbClr val="3399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20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55640" y="6021000"/>
            <a:ext cx="936720" cy="4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5F7F-0316-4268-8DE2-F38418999B58}" type="slidenum">
              <a:rPr b="0" lang="de-DE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1197000"/>
            <a:ext cx="8381880" cy="0"/>
          </a:xfrm>
          <a:prstGeom prst="line">
            <a:avLst/>
          </a:prstGeom>
          <a:ln w="38160">
            <a:solidFill>
              <a:srgbClr val="16af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999120" y="6080040"/>
            <a:ext cx="1643400" cy="4478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755640" y="6453360"/>
            <a:ext cx="6184800" cy="23760"/>
          </a:xfrm>
          <a:prstGeom prst="line">
            <a:avLst/>
          </a:prstGeom>
          <a:ln w="38160">
            <a:solidFill>
              <a:srgbClr val="16af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001000" y="260280"/>
            <a:ext cx="674640" cy="674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935960" y="649116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ISNet Winter School Finse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31640" y="1700280"/>
            <a:ext cx="727236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net &amp; Web Security</a:t>
            </a:r>
            <a:br>
              <a:rPr sz="40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se Study 3: Web application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669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ter Gollma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mburg University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go@tu-harburg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162A6-C8FB-4049-9279-D5A3A6D365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reating HTTP 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okies: Sent by server in an HTTP response using the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Set-Cooki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eader field; the client’s browser stores it in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document.cooki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includes it in all requests with a domain matching the cookie’s orig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RL query strings: SID (session identifier as defined in HTTP) included in every URL that points to a resource of the web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 parameters: SID stored in a hidden field in an HTML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okie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contai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ommon state; SID is a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referen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ommon state maintained at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4677D-5089-4E5A-8B2B-AB93D5F601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w Threat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Cookie poiso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Outside attacker or malicious client spoofs or changes common state by forging cook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ttacker can be a malicious end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acker only sees messages addressed to him and data obtained from compromised end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ttacker can guess predictable fields in unseen messag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oses two requirements on session identifiers: must be unpredictabile and stored in a safe pl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This is not the ‘old’ secret services threat model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9CC6A-D828-40B8-8AB8-EEA1615356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699920"/>
            <a:ext cx="7126200" cy="15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ame Origin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6B14A-DFC5-4D22-A378-49E7E77379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ame Origin Policy (S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forced by web browsers to protect application payloads and session identifiers from third par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b application identified by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doma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its hosting web serv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pplet may only connect back to the domain it came fr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okie is only included in requests to the domain that had placed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pages “have the same origin” if they share protocol, host name and port numb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EEAC1-1071-4D29-97CF-48DBA92BA8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OP for  http://www.my.org/dir1/hello.ht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11280" y="1774800"/>
          <a:ext cx="8064360" cy="3454560"/>
        </p:xfrm>
        <a:graphic>
          <a:graphicData uri="http://schemas.openxmlformats.org/drawingml/2006/table">
            <a:tbl>
              <a:tblPr/>
              <a:tblGrid>
                <a:gridCol w="5256000"/>
                <a:gridCol w="1381320"/>
                <a:gridCol w="1427040"/>
              </a:tblGrid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my.org/dir1/</a:t>
                      </a: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other.ht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my.org/</a:t>
                      </a: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dir2/sub/other.ht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http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//www.my.org/dir2/some.ht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c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my.org</a:t>
                      </a: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:81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dir2/some.ht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</a:t>
                      </a:r>
                      <a:r>
                        <a:rPr b="0" lang="en-GB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host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my.org/dir2/some.ht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5CD96-066F-4EEF-A8E4-0BAA5F8EC3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laxing the Same Origin 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do not want to distinguish between hosts in the same domain, SOP is too restrict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Parent domain travers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hortens domain name held in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document.doma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the DOM to its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.domain.tl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Top Level Domain) portion;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wwww.my.or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an be shortened to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my.or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ut not to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or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: Domain names where the last two fields define a domain, e.g.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.co.u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r UK compan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parent domain traversal, all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co.u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omains can be accessed if you have access to one comp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owsers keep lists of exceptions to parent domain tra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49018-65EE-4333-9A6B-84E6F7577F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31640" y="1699920"/>
            <a:ext cx="7126200" cy="15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ross Site Scrip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15CA0-35BE-4ED7-BC54-F2170AE249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ross-site scripting (XS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ies involved: Attacker, client (victim), server (‘trusted’ by the clie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acker places malware on a page at the server (stored XSS) or gets the victim to include the malware in a request to the server (reflected X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de is contained in the page returned by the server to the cl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de is executed at the client with the permissions of the trusted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Evades client’s origin based security poli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7A8A4-7C13-4452-B777-26D1BCB2E0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Reflected X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 gets malicious input from attacker, e.g. by visiting attacker’s web site, which is then included in a request to the trusted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provided by client used by server-side scripts to generate results p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unvalidated user data is included in results page (e.g. no HTML encoding), client-side code can be injected into this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de will execute with permissions of trusted serv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examples where client input is reflected: Search forms, custom 404 pag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19FEC-CBCE-4053-AFE9-8A64A2BD75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lected X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715000" y="4438800"/>
          <a:ext cx="546120" cy="142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4438800"/>
                    <a:ext cx="546120" cy="14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400800" y="1695600"/>
          <a:ext cx="546120" cy="142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695600"/>
                    <a:ext cx="546120" cy="14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898800" y="3348000"/>
          <a:ext cx="631800" cy="13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98800" y="3348000"/>
                    <a:ext cx="63180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593520" y="434016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ew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computr2"/>
          <p:cNvSpPr/>
          <p:nvPr/>
        </p:nvSpPr>
        <p:spPr>
          <a:xfrm>
            <a:off x="1447920" y="1828800"/>
            <a:ext cx="1054080" cy="855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4038480"/>
            <a:ext cx="31244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41840" y="5257800"/>
            <a:ext cx="186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ttacker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rusted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1371600"/>
            <a:ext cx="30481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15000" y="297180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usted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3881520"/>
            <a:ext cx="12952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21337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0920" y="3505320"/>
            <a:ext cx="838080" cy="99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el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[instr.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876920"/>
            <a:ext cx="2514600" cy="1066680"/>
          </a:xfrm>
          <a:prstGeom prst="wedgeRoundRectCallout">
            <a:avLst>
              <a:gd name="adj1" fmla="val 41162"/>
              <a:gd name="adj2" fmla="val -7782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licious instructions encoded a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2362320"/>
            <a:ext cx="838440" cy="99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el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[instr.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1066680"/>
            <a:ext cx="838440" cy="990720"/>
          </a:xfrm>
          <a:prstGeom prst="rect">
            <a:avLst/>
          </a:prstGeom>
          <a:solidFill>
            <a:srgbClr val="ffcc99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eld: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text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76320"/>
            <a:ext cx="1752480" cy="1066680"/>
          </a:xfrm>
          <a:prstGeom prst="wedgeRoundRectCallout">
            <a:avLst>
              <a:gd name="adj1" fmla="val -88041"/>
              <a:gd name="adj2" fmla="val 6622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et with malicious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2205000"/>
            <a:ext cx="4038480" cy="1447920"/>
          </a:xfrm>
          <a:custGeom>
            <a:avLst/>
            <a:gdLst/>
            <a:ahLst/>
            <a:rect l="l" t="t" r="r" b="b"/>
            <a:pathLst>
              <a:path w="2544" h="912">
                <a:moveTo>
                  <a:pt x="2544" y="48"/>
                </a:moveTo>
                <a:cubicBezTo>
                  <a:pt x="1512" y="24"/>
                  <a:pt x="480" y="0"/>
                  <a:pt x="240" y="144"/>
                </a:cubicBezTo>
                <a:cubicBezTo>
                  <a:pt x="0" y="288"/>
                  <a:pt x="552" y="600"/>
                  <a:pt x="1104" y="9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0E61B-F315-4BB1-9D10-CD330A31FD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Security – Introdu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designed to share scientific documents; originally little concern for secur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omponents involv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3399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 (Apache, II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3399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s (written in Java, C, Perl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3399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s (IE, Netscape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3399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s, languages, data formats (HTTP, XML, SQL, S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3399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ng systems (Windows, Linux, Unix, Mac 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level vulnerabilities account today for an increasing number of security proble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3399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oss site scripting (XSS) first in 2005 CVE list and in the 2007 OWASP Top Ten vulner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CAB93-256B-4CC8-8E5C-E3730803CF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ored X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ored, persistent, or second-order X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provided to a web application is stored persistently on server (in database, file system, …) and later displayed to users in a web p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, bulletin board type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time the vulnerable web page is visited, the malicious code gets executed; 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tacker needs to inject script just o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76460-DED4-4556-A70D-9DA6A241C2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xecution of code on the victim’s mach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okie stealing &amp; cookie poiso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ad or modify victim’s cook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code in another security z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transactions on another web site (on behalf of a us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omise a domain by using malicious code to refer to internal web p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7CC09-32E1-49FF-8150-4C7F180F3A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f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ltimate cause of attack: Client only authenticates ‘the last hop’ of the entire page, but not the true origin of all parts of the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fence 1: Do not rely on the same origin policy; try to differentiate between code and data inst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ter client inputs, sanitize server outputs, escape dangerous charac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2AAF7-C6FF-4C8E-AB55-40FB722AFE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aping – a ‘counterexample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slashes (defence against SQL injection) and the GBK character set (Simplified Chines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0xbf2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not a valid multi-byte GBK character; as single-byte characters: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0xb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llowed by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0x2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'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 a slash in front of the single quote: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0xbf</a:t>
            </a: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5c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2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the valid multi-byte GBK character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0xbf5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llowed by a single quot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ce: Chris Shiflett http://shiflett.org/blog/2006/jan/addslashes-versus-mysql-real-escape-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3542D-24DD-4889-AFFD-2F590B5CB2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M-based X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Objects like </a:t>
            </a:r>
            <a:r>
              <a:rPr b="0" i="1" lang="en-GB" sz="2400" spc="-1" strike="noStrike">
                <a:solidFill>
                  <a:srgbClr val="3333cc"/>
                </a:solidFill>
                <a:latin typeface="Arial"/>
              </a:rPr>
              <a:t>document.URL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 in the DOM are not retrieved from the HTML received from the server but represent the browser’s view of the current UR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acker creates page with malicious code in the URL and a request for a frame on a trusted site; the result page returned from the trusted site references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document.URL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DO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the user clicks on link to the attacker’s page, the client’s browser stores the bad URL in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document.UR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request the frame from the trusted s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ript in results page references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document.UR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 in this way the attacker's code will also be execu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9F629-2FD5-4DF7-9BE4-B3F2ECA4033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me-based X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715000" y="4438800"/>
          <a:ext cx="546120" cy="142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4438800"/>
                    <a:ext cx="546120" cy="14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400800" y="1695600"/>
          <a:ext cx="546120" cy="142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695600"/>
                    <a:ext cx="546120" cy="14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3598200" y="44830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computr2"/>
          <p:cNvSpPr/>
          <p:nvPr/>
        </p:nvSpPr>
        <p:spPr>
          <a:xfrm>
            <a:off x="1447920" y="1828800"/>
            <a:ext cx="1054080" cy="855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4038480"/>
            <a:ext cx="31244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41840" y="5257800"/>
            <a:ext cx="186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ttacker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rusted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1371600"/>
            <a:ext cx="30481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15000" y="297180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usted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21337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08360" y="1052640"/>
            <a:ext cx="1901880" cy="809640"/>
          </a:xfrm>
          <a:prstGeom prst="wedgeRoundRectCallout">
            <a:avLst>
              <a:gd name="adj1" fmla="val -24958"/>
              <a:gd name="adj2" fmla="val 7843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et that refers to U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2205000"/>
            <a:ext cx="4038480" cy="1447920"/>
          </a:xfrm>
          <a:custGeom>
            <a:avLst/>
            <a:gdLst/>
            <a:ahLst/>
            <a:rect l="l" t="t" r="r" b="b"/>
            <a:pathLst>
              <a:path w="2544" h="912">
                <a:moveTo>
                  <a:pt x="2544" y="48"/>
                </a:moveTo>
                <a:cubicBezTo>
                  <a:pt x="1512" y="24"/>
                  <a:pt x="480" y="0"/>
                  <a:pt x="240" y="144"/>
                </a:cubicBezTo>
                <a:cubicBezTo>
                  <a:pt x="0" y="288"/>
                  <a:pt x="552" y="600"/>
                  <a:pt x="1104" y="9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349360"/>
            <a:ext cx="3456000" cy="1800360"/>
          </a:xfrm>
          <a:custGeom>
            <a:avLst/>
            <a:gdLst/>
            <a:ahLst/>
            <a:rect l="l" t="t" r="r" b="b"/>
            <a:pathLst>
              <a:path w="3485" h="1587">
                <a:moveTo>
                  <a:pt x="3485" y="1587"/>
                </a:moveTo>
                <a:cubicBezTo>
                  <a:pt x="2188" y="1129"/>
                  <a:pt x="892" y="672"/>
                  <a:pt x="446" y="408"/>
                </a:cubicBezTo>
                <a:cubicBezTo>
                  <a:pt x="0" y="144"/>
                  <a:pt x="404" y="72"/>
                  <a:pt x="80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795840" y="3429000"/>
          <a:ext cx="631800" cy="13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95840" y="3429000"/>
                    <a:ext cx="63180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4140360" y="4221000"/>
            <a:ext cx="1511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11640" y="3789360"/>
            <a:ext cx="1427040" cy="9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5640" y="4221000"/>
            <a:ext cx="1901880" cy="720720"/>
          </a:xfrm>
          <a:prstGeom prst="wedgeRoundRectCallout">
            <a:avLst>
              <a:gd name="adj1" fmla="val 35893"/>
              <a:gd name="adj2" fmla="val -14603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licious code in U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80000" y="1484280"/>
            <a:ext cx="576360" cy="1417680"/>
          </a:xfrm>
          <a:prstGeom prst="noSmoking">
            <a:avLst>
              <a:gd name="adj" fmla="val 125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43280" y="1484280"/>
            <a:ext cx="576360" cy="1417680"/>
          </a:xfrm>
          <a:prstGeom prst="noSmoking">
            <a:avLst>
              <a:gd name="adj" fmla="val 125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00640" y="2924280"/>
            <a:ext cx="121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sanit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6680" y="2924280"/>
            <a:ext cx="9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33400" y="5084640"/>
            <a:ext cx="1901880" cy="1081080"/>
          </a:xfrm>
          <a:prstGeom prst="wedgeRoundRectCallout">
            <a:avLst>
              <a:gd name="adj1" fmla="val 53171"/>
              <a:gd name="adj2" fmla="val -18406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est for ‘innocent’ web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520" y="1197000"/>
            <a:ext cx="146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malic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yp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he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70F87-8DDF-44CE-A5DE-6FC410755A4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okie Stea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3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b cookies stored at client in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document.cooki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uld only be included in requests to the domain that had set the cooki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 reflected XSS attack, the attacker’s script executing on the client may read the client’s cookie from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document.cooki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send its value back to the attack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violation of same origin policy; the script is executed in the context of the attacker’s web p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EE365-32AB-42E3-8F14-213802449B0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tealing More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b page vulnerable to XSS can be used to capture data from ‘secure’ pages in the same domai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ript in XSS attack opens (almost) invisible window linked to target page in the client’s brows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3399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page that takes over the entire browser window and opens an inline frame to display target pag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3399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pop under windo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ith link to target page that sends itself to the backgrou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gue window has access to DOM of target page and can monitor the user’s in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Endpoint of channels at the client: DOM in brow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DOMs of linked pages can connect chann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AA76D-2FFF-4A9E-B48A-DD75E0A871D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f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ence 2 – Authentication: Server sends unpredictable one-time URLs to client during session establish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 can then recognize these URLs as ‘its own’ and authenticate requests as originating directly from the cli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99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-time URLs have to be stored in a safe place at client (e.g. private variables of a JavaScript objec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99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ce: Martin Johns: Session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End points of channel at client: Ap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456FA-D53F-454D-B86E-0864CA79E16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32000" y="1599840"/>
            <a:ext cx="7431120" cy="26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 site request forge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XSRF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E773B-4137-4862-B643-E86CB4EC87B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 applications typically accept inputs from remote si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 applications may use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address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IP addresses, DNS names) as the basis for authorisation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 applications may establish common state between participants and refer to this common state when authorising requ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All these points can become vulnerab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FCC60-05F1-4972-BE55-B4259ADCEE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ross-site request forg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SRF exploits ‘trust’ a website has in a user to execute malware at a target website with the user’s privile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es involved: Attacker, user, target website (victi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r is authenticated at target website (cookie, authenticated session,…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user has to visit the attacker’s webpage, which contains hidden malware, e.g. in an HTML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62E15-285F-4CA7-86AF-73498995DA5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XSRF at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the user browses this page, the page automatically submits the form data using to a target site where the user has ac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rget authenticates request as coming from user; form data accepted by server since it comes from a legitimate u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Evades target’s origin based security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C62CE-159C-4098-8D7D-0647A6355A7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XSR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715000" y="4336920"/>
          <a:ext cx="54612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4336920"/>
                    <a:ext cx="54612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591240" y="1730520"/>
          <a:ext cx="546120" cy="142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91240" y="1730520"/>
                    <a:ext cx="546120" cy="14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3635280" y="3327480"/>
          <a:ext cx="631800" cy="13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35280" y="3327480"/>
                    <a:ext cx="63180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3598200" y="43830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computr2"/>
          <p:cNvSpPr/>
          <p:nvPr/>
        </p:nvSpPr>
        <p:spPr>
          <a:xfrm>
            <a:off x="1536840" y="1938240"/>
            <a:ext cx="1054080" cy="855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3936960"/>
            <a:ext cx="31244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41840" y="5156280"/>
            <a:ext cx="186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ttacker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rusted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57920" y="294012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arge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67280" y="3835440"/>
            <a:ext cx="158436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84360" y="3560760"/>
            <a:ext cx="9144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instr.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32000" y="4997520"/>
            <a:ext cx="2361960" cy="1066680"/>
          </a:xfrm>
          <a:prstGeom prst="wedgeRoundRectCallout">
            <a:avLst>
              <a:gd name="adj1" fmla="val 19625"/>
              <a:gd name="adj2" fmla="val -8481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licious instructions in web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05320" y="2746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9" idx="4"/>
            <a:endCxn id="180" idx="4"/>
          </p:cNvCxnSpPr>
          <p:nvPr/>
        </p:nvCxnSpPr>
        <p:spPr>
          <a:xfrm>
            <a:off x="3294000" y="2822040"/>
            <a:ext cx="25804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81" name=""/>
          <p:cNvCxnSpPr>
            <a:stCxn id="179" idx="0"/>
            <a:endCxn id="180" idx="0"/>
          </p:cNvCxnSpPr>
          <p:nvPr/>
        </p:nvCxnSpPr>
        <p:spPr>
          <a:xfrm>
            <a:off x="3294000" y="1955520"/>
            <a:ext cx="25804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5721480" y="1969920"/>
            <a:ext cx="304560" cy="83844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41720" y="1969920"/>
            <a:ext cx="304920" cy="83844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2319480"/>
            <a:ext cx="3097440" cy="1295280"/>
          </a:xfrm>
          <a:custGeom>
            <a:avLst/>
            <a:gdLst/>
            <a:ahLst/>
            <a:rect l="l" t="t" r="r" b="b"/>
            <a:pathLst>
              <a:path w="2544" h="912">
                <a:moveTo>
                  <a:pt x="2544" y="48"/>
                </a:moveTo>
                <a:cubicBezTo>
                  <a:pt x="1512" y="24"/>
                  <a:pt x="480" y="0"/>
                  <a:pt x="240" y="144"/>
                </a:cubicBezTo>
                <a:cubicBezTo>
                  <a:pt x="0" y="288"/>
                  <a:pt x="552" y="600"/>
                  <a:pt x="1104" y="9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92360" y="2033640"/>
            <a:ext cx="216216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hentic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n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97360" y="2382840"/>
            <a:ext cx="765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9E4E0-E490-4D5E-8B65-127481441FD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XSRF def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ltimate cause of attack: The server only authenticates ‘the last hop’ of the entire page, but not the true origin of all parts of the p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ver initiated defence: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Authentica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quests at the level of the Web application (‘above’ the brows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ver sends secret (in the clear) when session is being establish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ication sends authenticators with each ac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3399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SRFPreventionToken, e.g. HMAC(Action_Name+Secret, SessionI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3399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ndom XSRFPreventionToken or random session cook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D7B1F-C020-4565-8753-F7AFA9CC796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XSRF def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ient-side only defence for HTTP layer ses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xy between browser and network marks all URLs in incoming web pages with an unpredictable token; keeps a database associating tokens with domai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xy checks all outgoing reques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3399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 token is found, the request did not originate in the cli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3399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xy then checks whether its origin matches the domain the request is sent 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3399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therwise, all authenticators (SIDs, cookies) added by the browser are stripped from the UR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ce: Martin Johns, RequestRode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B178A-C071-4D36-A192-0672CE90EAA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32000" y="1599840"/>
            <a:ext cx="7431120" cy="19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 hij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1147D-CAD3-455D-93D4-B649609B0E9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eb 1.0 &amp; Web 2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1447920"/>
            <a:ext cx="3048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4191120"/>
            <a:ext cx="3048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95280" y="4495680"/>
            <a:ext cx="243864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5181480"/>
            <a:ext cx="243864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ckend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2057400"/>
            <a:ext cx="243864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33720" y="2514600"/>
            <a:ext cx="0" cy="1981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2514600"/>
            <a:ext cx="0" cy="1981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360" y="3336840"/>
            <a:ext cx="103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44360" y="3325680"/>
            <a:ext cx="126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TML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S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0" y="1447920"/>
            <a:ext cx="3048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29200" y="4191120"/>
            <a:ext cx="3048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4495680"/>
            <a:ext cx="243864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10080" y="5181480"/>
            <a:ext cx="243864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ckend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10080" y="1600200"/>
            <a:ext cx="243864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29718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34320" y="3048120"/>
            <a:ext cx="0" cy="14475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05160" y="3336840"/>
            <a:ext cx="103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923520" y="3338640"/>
            <a:ext cx="133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ML dat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10080" y="2590920"/>
            <a:ext cx="243864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jax 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48520" y="2057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934320" y="2057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56480" y="2133720"/>
            <a:ext cx="132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ava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56280" y="2133720"/>
            <a:ext cx="211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TML+CS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22C11-9733-48A7-9202-B415D1166C6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vaScript hijacking (Web 2.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79246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lated to XSRF, but discloses confidential data to attacker; bypasses same origin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atures exploi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99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Ajax engi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t client side sitting between browser and web server; performs many actions automat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99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b 2.0 applications may use JavaScript (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JS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for data transport; the main issue is not the data format but the decoding of application payloa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583B2-5D1F-4932-BD63-2CFDFE5259F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vaScript hijacking – phas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r has visits attacker’s web page that contains mal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tacker’s page includes data from the target application in its web page (in a script tag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ient browser will get this data using the user’s current cookies/session (assuming that a session is ope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 far same attack pattern as in XSR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7127B-4BE7-41F2-82D1-BB77FAA6C43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vaScript hijacking – phase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tacker’s malware written to override the object constructor in the client’s AJAX eng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the server’s JSON result page is processed at the client, the modified object constructor is invoked and sends the secret data to attack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execution is performed in the context of the attacker’s web page; thus it is permitted to send the captured data back to attac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EBCD3-BC1C-4075-ABC6-FA7A9CE13FA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 processing model (simplifi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me Origin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oss-site scrip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oss-site request fo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vaScript hijac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NS Rebinding at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5CCB3-2E94-4F88-8AA1-DE50221A6F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4865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vaScript hijacking – def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ences against phase one: Same as for XSR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defend against phase two,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change execution flo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t cl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ver modifies the JSON in its response so that it will not be directly executed by the brows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3399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fix message with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while(1)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cause an infinite loo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3399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message between comment charac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fix/comment removed by application; secret is thereby processed in the context of the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alicious web page cannot remove the b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cc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lient side end point of channel: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12309-86D8-4768-805C-568D60CE059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31640" y="1699920"/>
            <a:ext cx="7126200" cy="15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NS Rebinding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1CCE7-CA08-47CC-9DE9-B29B529E727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NS re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 browsers enforce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same origin polic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Applet can only connect back to the server it was downloaded fr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make a connection, the client’s browser needs the IP address of the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Authoritative DNS serv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esolves ‘abstract’ DNS names in its domain to ‘concrete’ IP addr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lient’s browser ‘trusts’ the DNS server when enforcing the same origin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B4520-C67C-4B4E-80CF-01297CE087C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057400" y="2514600"/>
            <a:ext cx="46483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Trust is Bad for Secur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D0046-A9E1-4B78-9696-99C17A72266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NS rebinding attac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use trust”: Attacker creates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attacker.co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omain; binds this name to two IP addresses, to its own and to the target’s ad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ient downloads applet from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attacker.co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; applet connects to target’s IP address; permitted by same origin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ence: Same origin policy with IP ad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. Dean, E.W. Felten, D.S. Wallach: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Java security: from HotJava to Netscape and beyo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1996 IEEE Symposium on Security &amp; Priva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14702-4457-4A8F-B146-49E34E1B2DE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NS rebinding attac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848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xt round: Javascript, 20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ient visits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attacker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 attacker’s DNS server resolves this name to attacker’s IP address with short time-to-l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acker rebinds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attacker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target’s addr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licious script connects to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attacker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 binding has expired; browser asks again and now gets the target’s ad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ence: Do not trust server on time-to-live; keep time yourself and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p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ost name to original IP ad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99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. Roskind: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Attacks against the Netscape brows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in RSA Conference, April 20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685AC-F481-483F-BE06-0C2DA539249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NS rebinding attac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tacker takes its application server offline; connection attempt by the malware fai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lient’s browser might then drop the pin for that server and go back to the attacker’s DNS server to get the ‘correct’ IP address for the application server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Lesson: Error handling is security crit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74A3D-6563-4F3C-B27E-6C62CD69FC2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NS rebinding attac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xt round: Browser plug-ins that do their own pi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 sophisticated authorisation system: Client browser refers to policy obtained from DNS server when deciding on connection requ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ngerous constel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3399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cation path between plug-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3399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plug-in has its own pinning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acker may use the client’s browser as a proxy to attack the tar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A52CA-0BC1-40B7-993D-6BF7E5490B8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f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entralize security controls; one pinning database for all plug-ins; e.g., let all plug-ins use the browser’s p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Do not ask DNS server for the policy but the system with the IP address a DNS name is being resolved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ilar to reverse DNS look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ilar to defences against bombing att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C96B5-C931-4F7D-AC47-CC680BCAE91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773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not enforce a security policy if you cannot authenticate the attributes it refers 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precisely is the end point being authenticat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3399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rms like ‘Alice’ and ‘Bob’ or ‘server’ and ‘client’ are too imprec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: How to authenticate the location a data item came from? It might have travelled a long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: How to authenticate location without a suitable infrastru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3399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Know thyself and double chec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4B3B2-8CB5-4B14-A80E-4F6114D3528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1640" y="1699920"/>
            <a:ext cx="7126200" cy="15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b process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D4062-DBC1-43BA-A7E0-9063AC31EB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to look out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7732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shups, web feeds, and synd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same origin policies the fun is just star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99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 access control headers for cross-domain poli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99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JAX cross-domain poli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will set those polic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will enforce those polic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8048B-553A-4193-871F-F07AA858EED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SS: Cross site scrip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3399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ERT Advisory CA-2000-02: Malicious HTML Tags Embedded in Client Web Reque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3399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ing Secure Code, chapter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SRF: Cross site request fo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3399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esse Burns: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Cross Site Reference Forger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2005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vaScript hij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3399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ian Chess, Yekaterina Tsipenyuk O'Neil, Jacob West: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JavaScript Hijack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NS rebinding att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3399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llin Jackson, Adam Barth, Andrew Bortz, Weidong Shao, Dan Boneh: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Protecting Browsers from DNS Rebinding Attack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71358-5A7C-4EAC-A973-27643F977F4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b process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23960" y="1447920"/>
            <a:ext cx="3048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23960" y="4191120"/>
            <a:ext cx="3048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05200" y="4495680"/>
            <a:ext cx="243828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05200" y="5181480"/>
            <a:ext cx="243828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ckend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05200" y="2057400"/>
            <a:ext cx="243828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43280" y="2514600"/>
            <a:ext cx="0" cy="1981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29080" y="2514600"/>
            <a:ext cx="0" cy="1981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99920" y="3336840"/>
            <a:ext cx="103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53920" y="3325680"/>
            <a:ext cx="126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TML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S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52720" y="275436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84040" y="550692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89814-058A-45F7-9DFB-69F6D2761D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705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eb applications – infrastructu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9185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ic of a web application implemented at web server and back-end serv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99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b server known by its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domain na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port protocol specifies data formats and encoding &amp; decoding of application payloa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99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port: HTTP; data format: HTML (and Cascading Style Sheets (CSS)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ing at client side managed by brows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99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ient has no name other than its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IP addre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D08CC-0878-493A-832B-AEDA307F7D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eb applications – process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789156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ient sends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HTTP reque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web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3399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ent’s browser has to resolve server’s domain name to an IP add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ript at web server extracts input from client request; constructs a request to backend application serv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b server gets result from backend server, returns a HTML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result pag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li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ient’s browser displays result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M (Domain Object Model) internal representation of HTML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1DFDF-5908-45E6-BD0C-706345AB2C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270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 is stateless;  Web applications can create sessions on top of HTTP or use SSL sessions established in the network lay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create a session on top of HTTP, the server generates a session identifier and sends it to cli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ient includes session identifier in subsequent requests to serv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ests are authenticated as belonging to a session if they contain the correct session identif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6afc2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ssions could be established for a particula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4E7DE-D917-40AF-8804-C7EA0045B4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1T09:15:32Z</dcterms:created>
  <dc:creator>b-tina</dc:creator>
  <dc:description/>
  <dc:language>en-US</dc:language>
  <cp:lastModifiedBy>Prof. Dieter Gollmann</cp:lastModifiedBy>
  <cp:lastPrinted>1999-07-26T11:07:16Z</cp:lastPrinted>
  <dcterms:modified xsi:type="dcterms:W3CDTF">2008-04-24T10:25:19Z</dcterms:modified>
  <cp:revision>595</cp:revision>
  <dc:subject/>
  <dc:title>Technische Universität Hamburg-Harburg</dc:title>
</cp:coreProperties>
</file>